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63DC-136E-4D8D-B6A4-BCA3A332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B09-62D5-49F1-8592-DBAAEC49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0D0-885B-4718-BAF6-FEC5EB48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FD7-6639-4182-A72D-C638768B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930F-3DD3-4877-90CA-E17C0DFD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25A9-571A-4EF8-9204-0C8B5535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FAC8-32C0-426E-A22C-FEF6CB45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F1FA-3B61-49E4-BF17-90081B96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F88C-B4B5-4686-B836-C300DCEF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33F5-8678-41B7-B02F-1B719ACB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C80E-7011-49C4-A1C2-7FEE0B2B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EA8-A219-45AA-8117-75FE8A06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FB2A-128C-46C4-A8D7-32EBE6D6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5755-F677-4543-85C0-7A016DD6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14A3-941E-4DEE-B1F6-A9F97907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A4F1-701B-44D1-9D46-CB4CAFD9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630C-9662-4D3B-A235-0D640D04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4DE-F01F-4876-A8BB-19BE65ED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769-7EE9-4D44-B37D-29331EFC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0CC-E2E1-4B01-957D-2344044C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924-2EBD-4669-AF83-DAD24CEF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A4E-FF07-4D3A-BA36-41C73F5E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FA7-0450-4B79-9525-AB2CF889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B61-67DF-4971-8A3F-34863721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BE41-3B16-4E28-A804-4B05C2C3610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755C-8D15-4485-9367-77FF3BD3DA8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eptable Use for Stud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a computer to talk to your friends is cool.  Exploring Web sites makes school work more fu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st as there are rules in your classroom, in the Science lab, at home, and for crossing the street safely, there are rules for using computers, programs and the Intern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s may also build their own curriculum-related webp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the abundance of new social media tools available to student:                                            wikis and blogs student products and documents have the potential to reach an audience far beyond the classroo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s should request help in evaluating the credibility of the information and recognizing inappropriate cont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s brings new levels of responsibility and accountability for everyo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137160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ith Supervis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eptable M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Permitted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Yes you can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t’s OK to do it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owever, there are guidelines-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Internet 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support the educational goals and objectives of RRIS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be educationally relev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be supervised by adults at all ti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 may not type their own or others name, address, phone number or other personal information into any place on the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 Internet 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y not use another person’s ID number or passwor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y not upload programs to or download programs from the Interne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udents who do not follow the guidelines will face disciplinary action, such as loss of computer privilege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may students do on the compute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ve parental permission to use the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be an educational purpose for using the Intern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contribute to class web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use teacher- designed web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may students do on the comput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y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rows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teacher-selected web pages with staff supervision-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rowse means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ing through pages of a specific web site designated by the teacher to view the content of those particular pag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P- 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es 4 and 5 may search subject directories- Nettrekker, Yahooligans, those designated by the librarian or teacher to be student frien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es 3-5 may typ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acher-approv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RL’s directly into the address bar-  Student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ve the address checked by the teacher before pressing En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Internet 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fer to the matrix with specific guidelines for student use of the Internet found posted in the lab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ach teacher also has a copy and will be carefully monitoring the content produc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heck with your ITS or Librarian if there are question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nsure all information is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ppropriat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evan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iab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udents should get facts, not opinions or propaganda (unless your directions specifically ask for these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achers can assist students in accessing appropriate information from the interne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21:20:09Z</dcterms:created>
  <dc:creator>amanda allen</dc:creator>
  <dc:description/>
  <dc:language>en-US</dc:language>
  <cp:lastModifiedBy>105allena</cp:lastModifiedBy>
  <dcterms:modified xsi:type="dcterms:W3CDTF">2009-08-24T20:52:51Z</dcterms:modified>
  <cp:revision>24</cp:revision>
  <dc:subject/>
  <dc:title>Student Internet Use</dc:title>
</cp:coreProperties>
</file>